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png" ContentType="image/png"/>
  <Override PartName="/ppt/media/image11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B7A-1BF6-42AA-898F-2C9B2CDA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3FC-2991-44D4-AE9C-538F5090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F0E-D8C0-4A0B-AAB8-85B85068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99B-9F59-4966-8D17-12212249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BF20-7F78-48A6-9CA5-1BC7546E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9726-065B-489A-B62D-D4D31375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7717-38DC-4A17-A2A7-C4637571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8154-AF66-4F84-80B7-A673F826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0CBE-FF9C-4DDD-946C-3F2B1944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48B6-8757-4F09-AD8C-D59142F8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A673-928E-4F27-826C-771AD923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BC1-1F76-4D81-BB53-AA03DCF4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0E99-256F-4297-AD8A-989E8B95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77B3-3190-4367-BA6A-46C72E45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AF67-C602-4E32-A891-A4CCE1E5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1F0D-1834-46E6-9B39-C10C4E91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22B9-CEAA-4043-9814-2AD919A9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857-E587-46A9-9E4C-5A074A41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1E0-92A4-47CD-A05E-6BF4E80F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8DB-93B1-4D1E-BDAE-638D2E07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7F97-3DCB-4EB1-A1D1-B7DF0D92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36D-17AC-4C58-BC05-18441DE0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956-AA2E-4782-A877-2138ED41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FDA-5BAB-41D5-907E-E5542DC4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A5E4-3284-4120-8B33-2D781088D5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2187-0873-4F4A-8992-897E20A71CE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bmtneighbors.org/pearorchard.html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www.bmtneighbors.org/tyrellpark.html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hyperlink" Target="http://en.wikipedia.org/wiki/File:Motiva_Enterprises_LLC_logo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00000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Brush Script Std"/>
              </a:rPr>
              <a:t>This is me unique ,as can be”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ickham Script Pro Regular"/>
              </a:rPr>
              <a:t>Jordan LaD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 flipH="1">
            <a:off x="4572000" y="1828800"/>
            <a:ext cx="2362320" cy="1149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Bickham Script Pro Regular"/>
              </a:rPr>
              <a:t>Jordan La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000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767640" y="3610080"/>
            <a:ext cx="2376360" cy="3247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4505400" cy="1314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295280" y="5105520"/>
            <a:ext cx="5010120" cy="1457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0" y="609480"/>
            <a:ext cx="4524480" cy="13431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72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 Std"/>
              </a:rPr>
              <a:t>my pa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s born in BMT, TX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’ve attended Price ,Fehl Elementary South Park Middle School, and Clifton J. Ozen high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715000" y="533520"/>
            <a:ext cx="28479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XF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Pear Orchard Neighborhood Association Sig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95288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tencil Std"/>
              </a:rPr>
              <a:t>My pres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'm creative and very intelligen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y favorite sport is foot bal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 am currently a mechanics assist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Tyrrell Park  Neighborhood Association Sig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00880" y="0"/>
            <a:ext cx="1743120" cy="1743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228600" y="228600"/>
            <a:ext cx="16002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 Std"/>
              </a:rPr>
              <a:t>My futur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5 years I hope to be out of school and work for a top chemical plan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10 years I hope to have a nice house and be set for the rest of my life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Motiva Enterprises, LL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586480"/>
            <a:ext cx="914400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362320" y="1905120"/>
            <a:ext cx="5495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Thats Me as YOU Can S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5:31:36Z</dcterms:created>
  <dc:creator>766935</dc:creator>
  <dc:description/>
  <dc:language>en-US</dc:language>
  <cp:lastModifiedBy>766935</cp:lastModifiedBy>
  <dcterms:modified xsi:type="dcterms:W3CDTF">2009-04-15T15:47:03Z</dcterms:modified>
  <cp:revision>4</cp:revision>
  <dc:subject/>
  <dc:title>“This is me unique ,as can be”</dc:title>
</cp:coreProperties>
</file>